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4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wmf" ContentType="image/x-wmf"/>
  <Override PartName="/ppt/media/image3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E986-750A-49CB-80FC-FDA49E871404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6496200"/>
            <a:ext cx="152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6699ff"/>
                </a:solidFill>
                <a:uFillTx/>
                <a:latin typeface="ITC Officina Sans Book"/>
                <a:hlinkClick r:id="rId3" action="ppaction://hlinksldjump"/>
              </a:rPr>
              <a:t>Outlin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B5BB46B2-D5F0-4320-9F32-9F765D2F944D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6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6.png"/><Relationship Id="rId15" Type="http://schemas.openxmlformats.org/officeDocument/2006/relationships/image" Target="../media/image33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Testing with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xPanel &amp; PCO2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20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ressed Tracing with Str2Ind-Tab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9520" y="5867280"/>
            <a:ext cx="855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fter loading of the table all traces will be shown as expecte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9520" y="2362320"/>
            <a:ext cx="8020080" cy="1885680"/>
            <a:chOff x="209520" y="2362320"/>
            <a:chExt cx="8020080" cy="1885680"/>
          </a:xfrm>
        </p:grpSpPr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2971800" y="2362320"/>
              <a:ext cx="52578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09520" y="2419200"/>
              <a:ext cx="29545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itially no table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terpretation of Trace-IDs is load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895480" y="2876400"/>
              <a:ext cx="373392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09520" y="3782880"/>
            <a:ext cx="8753400" cy="1932120"/>
            <a:chOff x="209520" y="3782880"/>
            <a:chExt cx="8753400" cy="1932120"/>
          </a:xfrm>
        </p:grpSpPr>
        <p:sp>
          <p:nvSpPr>
            <p:cNvPr id="165" name=""/>
            <p:cNvSpPr/>
            <p:nvPr/>
          </p:nvSpPr>
          <p:spPr>
            <a:xfrm>
              <a:off x="209520" y="3782880"/>
              <a:ext cx="481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after reset or by explicit request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PS sends a version numb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Viewer searches for matching .tab-file in specified directory structur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5181480" y="3935520"/>
              <a:ext cx="147348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533520" y="5002200"/>
              <a:ext cx="8429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962520" y="3935520"/>
              <a:ext cx="1295280" cy="4572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925880"/>
              <a:ext cx="45720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03040" y="1523880"/>
            <a:ext cx="855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for performance and memory reasons traces are compressed at compile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each PS build creates a str2ind-table containing [ID]-&gt;[Trace string] combinati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3400" y="1523520"/>
            <a:ext cx="788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unction traces …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1266840" y="4572000"/>
            <a:ext cx="6415200" cy="509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1309680" y="1981080"/>
            <a:ext cx="6500880" cy="59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1266840" y="3124080"/>
            <a:ext cx="7197840" cy="863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3400" y="990720"/>
            <a:ext cx="788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ypes of traces shown by PCO-View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400" y="26668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ent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400" y="4114800"/>
            <a:ext cx="788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rimitiv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400" y="51814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tat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266840" y="5562720"/>
            <a:ext cx="710568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828800"/>
            <a:ext cx="7935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receives all traces and redirected primitives from the targe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wards them to viewer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y store them into logfil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PCO-Server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767560" y="4343400"/>
            <a:ext cx="3000240" cy="19335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4560" y="3581280"/>
            <a:ext cx="8218440" cy="2713320"/>
            <a:chOff x="574560" y="3581280"/>
            <a:chExt cx="8218440" cy="2713320"/>
          </a:xfrm>
        </p:grpSpPr>
        <p:sp>
          <p:nvSpPr>
            <p:cNvPr id="191" name=""/>
            <p:cNvSpPr/>
            <p:nvPr/>
          </p:nvSpPr>
          <p:spPr>
            <a:xfrm>
              <a:off x="574560" y="3581280"/>
              <a:ext cx="7935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or replay it can forward logged data to viewers, too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5767560" y="4343400"/>
              <a:ext cx="3025440" cy="195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61960" y="4038480"/>
            <a:ext cx="7527600" cy="1981080"/>
            <a:chOff x="561960" y="4038480"/>
            <a:chExt cx="7527600" cy="198108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5416200" y="4038480"/>
              <a:ext cx="267336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H="1" flipV="1">
              <a:off x="7175520" y="5638320"/>
              <a:ext cx="6984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1960" y="4648320"/>
              <a:ext cx="5065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y insert extra timestamp trac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76360" y="5562720"/>
            <a:ext cx="462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s controlled by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>
            <a:lum bright="90000"/>
          </a:blip>
          <a:stretch/>
        </p:blipFill>
        <p:spPr>
          <a:xfrm>
            <a:off x="6964200" y="5486400"/>
            <a:ext cx="1013040" cy="4795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984240" cy="320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705720" y="533520"/>
            <a:ext cx="1685880" cy="5486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7720" y="838080"/>
            <a:ext cx="59961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PCO-Controll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44520" y="1143000"/>
            <a:ext cx="8418600" cy="990720"/>
            <a:chOff x="344520" y="1143000"/>
            <a:chExt cx="8418600" cy="990720"/>
          </a:xfrm>
        </p:grpSpPr>
        <p:sp>
          <p:nvSpPr>
            <p:cNvPr id="207" name=""/>
            <p:cNvSpPr/>
            <p:nvPr/>
          </p:nvSpPr>
          <p:spPr>
            <a:xfrm>
              <a:off x="344520" y="1143000"/>
              <a:ext cx="61214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is actually executed by pco2.bat and starts a configurable set of other applications, like xPanel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6400800" y="1143000"/>
              <a:ext cx="236232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351000" y="762120"/>
            <a:ext cx="8564400" cy="2057400"/>
            <a:chOff x="351000" y="762120"/>
            <a:chExt cx="8564400" cy="2057400"/>
          </a:xfrm>
        </p:grpSpPr>
        <p:sp>
          <p:nvSpPr>
            <p:cNvPr id="210" name=""/>
            <p:cNvSpPr/>
            <p:nvPr/>
          </p:nvSpPr>
          <p:spPr>
            <a:xfrm>
              <a:off x="351000" y="18288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access to PCO-Server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start logging of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replay logged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6400800" y="762120"/>
              <a:ext cx="2514600" cy="107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351000" y="533520"/>
            <a:ext cx="8640720" cy="5486400"/>
            <a:chOff x="351000" y="533520"/>
            <a:chExt cx="8640720" cy="5486400"/>
          </a:xfrm>
        </p:grpSpPr>
        <p:sp>
          <p:nvSpPr>
            <p:cNvPr id="213" name=""/>
            <p:cNvSpPr/>
            <p:nvPr/>
          </p:nvSpPr>
          <p:spPr>
            <a:xfrm>
              <a:off x="351000" y="27432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allows sending of FRAME system primitives to the protocol stack (via  PCO-Server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rom direct user inpu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4480" y="533520"/>
              <a:ext cx="2667240" cy="5486400"/>
              <a:chOff x="6324480" y="533520"/>
              <a:chExt cx="2667240" cy="548640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4480" y="685800"/>
                <a:ext cx="2667240" cy="12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00800" y="5105520"/>
                <a:ext cx="2195640" cy="46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8" name=""/>
          <p:cNvGrpSpPr/>
          <p:nvPr/>
        </p:nvGrpSpPr>
        <p:grpSpPr>
          <a:xfrm>
            <a:off x="351000" y="2286000"/>
            <a:ext cx="8305560" cy="3352680"/>
            <a:chOff x="351000" y="2286000"/>
            <a:chExt cx="8305560" cy="3352680"/>
          </a:xfrm>
        </p:grpSpPr>
        <p:sp>
          <p:nvSpPr>
            <p:cNvPr id="219" name=""/>
            <p:cNvSpPr/>
            <p:nvPr/>
          </p:nvSpPr>
          <p:spPr>
            <a:xfrm>
              <a:off x="351000" y="36576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ut of a pool of predefined system primitives loaded from a dedicated file (usually View.txt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1"/>
            <a:stretch/>
          </p:blipFill>
          <p:spPr>
            <a:xfrm>
              <a:off x="6400800" y="2286000"/>
              <a:ext cx="2255760" cy="33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351000" y="2057400"/>
            <a:ext cx="8335800" cy="4038480"/>
            <a:chOff x="351000" y="2057400"/>
            <a:chExt cx="8335800" cy="4038480"/>
          </a:xfrm>
        </p:grpSpPr>
        <p:sp>
          <p:nvSpPr>
            <p:cNvPr id="222" name=""/>
            <p:cNvSpPr/>
            <p:nvPr/>
          </p:nvSpPr>
          <p:spPr>
            <a:xfrm>
              <a:off x="351000" y="4191120"/>
              <a:ext cx="6121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selections in a matrix (stored per default in pco_stack.xml</a:t>
              </a:r>
              <a:r>
                <a:rPr b="0" lang="en-GB" sz="1600" spc="-1" strike="noStrike">
                  <a:solidFill>
                    <a:srgbClr val="003069"/>
                  </a:solidFill>
                  <a:latin typeface="Arial"/>
                </a:rPr>
                <a:t>) which may be ex-/import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2"/>
            <a:stretch/>
          </p:blipFill>
          <p:spPr>
            <a:xfrm>
              <a:off x="6400800" y="2057400"/>
              <a:ext cx="2286000" cy="19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3"/>
            <a:stretch/>
          </p:blipFill>
          <p:spPr>
            <a:xfrm>
              <a:off x="6400800" y="4038480"/>
              <a:ext cx="228600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344520" y="533520"/>
            <a:ext cx="8594640" cy="5638680"/>
            <a:chOff x="344520" y="533520"/>
            <a:chExt cx="8594640" cy="5638680"/>
          </a:xfrm>
        </p:grpSpPr>
        <p:grpSp>
          <p:nvGrpSpPr>
            <p:cNvPr id="226" name=""/>
            <p:cNvGrpSpPr/>
            <p:nvPr/>
          </p:nvGrpSpPr>
          <p:grpSpPr>
            <a:xfrm>
              <a:off x="6324480" y="533520"/>
              <a:ext cx="2590920" cy="5638680"/>
              <a:chOff x="6324480" y="533520"/>
              <a:chExt cx="2590920" cy="5638680"/>
            </a:xfrm>
          </p:grpSpPr>
          <p:sp>
            <p:nvSpPr>
              <p:cNvPr id="227" name=""/>
              <p:cNvSpPr/>
              <p:nvPr/>
            </p:nvSpPr>
            <p:spPr>
              <a:xfrm>
                <a:off x="6324480" y="1447920"/>
                <a:ext cx="2590920" cy="472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9" name=""/>
            <p:cNvSpPr/>
            <p:nvPr/>
          </p:nvSpPr>
          <p:spPr>
            <a:xfrm>
              <a:off x="344520" y="4876920"/>
              <a:ext cx="61214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enables setup of the communication drivers to be used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6324480" y="5410080"/>
              <a:ext cx="261468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51000" y="533520"/>
            <a:ext cx="8640720" cy="5943600"/>
            <a:chOff x="351000" y="533520"/>
            <a:chExt cx="8640720" cy="5943600"/>
          </a:xfrm>
        </p:grpSpPr>
        <p:sp>
          <p:nvSpPr>
            <p:cNvPr id="232" name=""/>
            <p:cNvSpPr/>
            <p:nvPr/>
          </p:nvSpPr>
          <p:spPr>
            <a:xfrm>
              <a:off x="351000" y="54864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on exit: shuts down all initially started application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alled the “test environment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24480" y="4724280"/>
              <a:ext cx="266724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6"/>
            <a:stretch/>
          </p:blipFill>
          <p:spPr>
            <a:xfrm>
              <a:off x="6705720" y="533520"/>
              <a:ext cx="168588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Logging / Record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2360" y="1219320"/>
            <a:ext cx="8012160" cy="1218960"/>
            <a:chOff x="522360" y="1219320"/>
            <a:chExt cx="8012160" cy="12189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486400" y="1219320"/>
              <a:ext cx="30481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flipV="1">
              <a:off x="4572000" y="1752480"/>
              <a:ext cx="2362320" cy="763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09880" y="2133360"/>
              <a:ext cx="190512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2360" y="1600200"/>
              <a:ext cx="7935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pecify name of test sessi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start logging proces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01480" y="2514600"/>
            <a:ext cx="7956720" cy="1905120"/>
            <a:chOff x="501480" y="2514600"/>
            <a:chExt cx="7956720" cy="190512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6324480" y="3657600"/>
              <a:ext cx="101304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5486400" y="2590920"/>
              <a:ext cx="297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495680" y="396252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1480" y="2514600"/>
              <a:ext cx="49644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every trace/primitive received via the test interface will be logg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Independent of any filter setting in a PCO-View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gree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314840" y="50288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90680" y="4267080"/>
            <a:ext cx="8520120" cy="2057400"/>
            <a:chOff x="490680" y="4267080"/>
            <a:chExt cx="8520120" cy="2057400"/>
          </a:xfrm>
        </p:grpSpPr>
        <p:sp>
          <p:nvSpPr>
            <p:cNvPr id="249" name=""/>
            <p:cNvSpPr/>
            <p:nvPr/>
          </p:nvSpPr>
          <p:spPr>
            <a:xfrm>
              <a:off x="490680" y="4267080"/>
              <a:ext cx="496404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after pressing the “STOP” button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&lt;session name&gt;.pco file can be found in the current session dir of PCO-Serv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copy of (selected parts of) the logged session can be stored somewhere else (and, e.g., be sent to developers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red agai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791320" y="5791320"/>
              <a:ext cx="42696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5486400" y="4419720"/>
              <a:ext cx="289548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6"/>
            <a:stretch/>
          </p:blipFill>
          <p:spPr>
            <a:xfrm>
              <a:off x="6781680" y="4800600"/>
              <a:ext cx="222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791320" y="4800600"/>
              <a:ext cx="990360" cy="7621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876920" y="6019560"/>
              <a:ext cx="83808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Replay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914400"/>
            <a:ext cx="8153280" cy="2144880"/>
            <a:chOff x="533520" y="914400"/>
            <a:chExt cx="8153280" cy="2144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5943600" y="2209680"/>
              <a:ext cx="104472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33520" y="1523880"/>
              <a:ext cx="79358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elect test session name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or drag/drop .pco-file to 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5715000" y="914400"/>
              <a:ext cx="2971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191120" y="1752480"/>
              <a:ext cx="22860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400800" y="1828800"/>
              <a:ext cx="0" cy="5335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33520" y="2971800"/>
            <a:ext cx="8153280" cy="928800"/>
            <a:chOff x="533520" y="2971800"/>
            <a:chExt cx="8153280" cy="928800"/>
          </a:xfrm>
        </p:grpSpPr>
        <p:sp>
          <p:nvSpPr>
            <p:cNvPr id="264" name=""/>
            <p:cNvSpPr/>
            <p:nvPr/>
          </p:nvSpPr>
          <p:spPr>
            <a:xfrm>
              <a:off x="533520" y="2971800"/>
              <a:ext cx="4964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ress the „PLAY“ butt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715000" y="2971800"/>
              <a:ext cx="2971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43400" y="3200400"/>
              <a:ext cx="243828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20" y="5638680"/>
            <a:ext cx="6333840" cy="457200"/>
            <a:chOff x="533520" y="5638680"/>
            <a:chExt cx="6333840" cy="457200"/>
          </a:xfrm>
        </p:grpSpPr>
        <p:sp>
          <p:nvSpPr>
            <p:cNvPr id="268" name=""/>
            <p:cNvSpPr/>
            <p:nvPr/>
          </p:nvSpPr>
          <p:spPr>
            <a:xfrm>
              <a:off x="4648320" y="586728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6553080" y="5715000"/>
              <a:ext cx="31428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33520" y="5638680"/>
              <a:ext cx="510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yellow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520" y="3962520"/>
            <a:ext cx="8076960" cy="1447560"/>
            <a:chOff x="533520" y="3962520"/>
            <a:chExt cx="8076960" cy="1447560"/>
          </a:xfrm>
        </p:grpSpPr>
        <p:sp>
          <p:nvSpPr>
            <p:cNvPr id="272" name=""/>
            <p:cNvSpPr/>
            <p:nvPr/>
          </p:nvSpPr>
          <p:spPr>
            <a:xfrm>
              <a:off x="533520" y="3962520"/>
              <a:ext cx="54100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logged traces/primitives will be replayed in connected 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epending on the individual filter settings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ausing and repositioning are possib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5"/>
            <a:stretch/>
          </p:blipFill>
          <p:spPr>
            <a:xfrm>
              <a:off x="5715000" y="4114800"/>
              <a:ext cx="28954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flipV="1">
              <a:off x="5791320" y="4952520"/>
              <a:ext cx="190476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791320" y="4876920"/>
              <a:ext cx="1066680" cy="3045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race/primitive filtering is done in two stag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4648320"/>
            <a:ext cx="914400" cy="761760"/>
          </a:xfrm>
          <a:prstGeom prst="foldedCorner">
            <a:avLst>
              <a:gd name="adj" fmla="val 12500"/>
            </a:avLst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ITC Officina Sans Book"/>
              </a:rPr>
              <a:t>Log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84080" y="2362320"/>
            <a:ext cx="2765160" cy="3581280"/>
            <a:chOff x="-784080" y="2362320"/>
            <a:chExt cx="2765160" cy="3581280"/>
          </a:xfrm>
        </p:grpSpPr>
        <p:sp>
          <p:nvSpPr>
            <p:cNvPr id="280" name=""/>
            <p:cNvSpPr/>
            <p:nvPr/>
          </p:nvSpPr>
          <p:spPr>
            <a:xfrm>
              <a:off x="152280" y="2362320"/>
              <a:ext cx="1295640" cy="310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7920" y="3200400"/>
              <a:ext cx="533160" cy="14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4600" y="2514600"/>
              <a:ext cx="1219320" cy="2743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78408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rotocol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71600" y="1676520"/>
            <a:ext cx="4267080" cy="4267080"/>
            <a:chOff x="1371600" y="1676520"/>
            <a:chExt cx="4267080" cy="4267080"/>
          </a:xfrm>
        </p:grpSpPr>
        <p:sp>
          <p:nvSpPr>
            <p:cNvPr id="285" name=""/>
            <p:cNvSpPr/>
            <p:nvPr/>
          </p:nvSpPr>
          <p:spPr>
            <a:xfrm>
              <a:off x="13716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24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Hard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003400" y="2444760"/>
              <a:ext cx="19224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951360" y="4648320"/>
              <a:ext cx="533160" cy="761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2590920"/>
              <a:ext cx="1371600" cy="76176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3733920"/>
              <a:ext cx="1676160" cy="76176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1676520"/>
            <a:ext cx="2971800" cy="4267080"/>
            <a:chOff x="4572000" y="1676520"/>
            <a:chExt cx="2971800" cy="4267080"/>
          </a:xfrm>
        </p:grpSpPr>
        <p:sp>
          <p:nvSpPr>
            <p:cNvPr id="292" name=""/>
            <p:cNvSpPr/>
            <p:nvPr/>
          </p:nvSpPr>
          <p:spPr>
            <a:xfrm>
              <a:off x="49528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oft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53080" y="2666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5410080" y="2189160"/>
              <a:ext cx="114480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5720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0890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781680" y="43434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05720" y="2405160"/>
            <a:ext cx="2361960" cy="3538440"/>
            <a:chOff x="6705720" y="2405160"/>
            <a:chExt cx="2361960" cy="3538440"/>
          </a:xfrm>
        </p:grpSpPr>
        <p:grpSp>
          <p:nvGrpSpPr>
            <p:cNvPr id="299" name=""/>
            <p:cNvGrpSpPr/>
            <p:nvPr/>
          </p:nvGrpSpPr>
          <p:grpSpPr>
            <a:xfrm>
              <a:off x="7238880" y="2405160"/>
              <a:ext cx="1676520" cy="2825640"/>
              <a:chOff x="7238880" y="2405160"/>
              <a:chExt cx="1676520" cy="28256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8880" y="4114800"/>
                <a:ext cx="1676520" cy="11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405160"/>
                <a:ext cx="1676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2" name=""/>
            <p:cNvSpPr/>
            <p:nvPr/>
          </p:nvSpPr>
          <p:spPr>
            <a:xfrm>
              <a:off x="6705720" y="54864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838080" y="1306440"/>
            <a:ext cx="3429000" cy="1454400"/>
            <a:chOff x="838080" y="1306440"/>
            <a:chExt cx="3429000" cy="145440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3429000" cy="11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38080" y="1306440"/>
              <a:ext cx="24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Controller</a:t>
              </a:r>
              <a:r>
                <a:rPr b="0" lang="de-DE" sz="1400" spc="-1" strike="noStrike">
                  <a:solidFill>
                    <a:srgbClr val="003069"/>
                  </a:solidFill>
                  <a:latin typeface="ITC Officina Sans Book"/>
                </a:rPr>
                <a:t>: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81240" y="4038480"/>
            <a:ext cx="4784760" cy="2438640"/>
            <a:chOff x="2181240" y="4038480"/>
            <a:chExt cx="4784760" cy="2438640"/>
          </a:xfrm>
        </p:grpSpPr>
        <p:sp>
          <p:nvSpPr>
            <p:cNvPr id="308" name=""/>
            <p:cNvSpPr/>
            <p:nvPr/>
          </p:nvSpPr>
          <p:spPr>
            <a:xfrm>
              <a:off x="2181240" y="6095880"/>
              <a:ext cx="4784760" cy="381240"/>
            </a:xfrm>
            <a:prstGeom prst="rect">
              <a:avLst/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55440" y="4038480"/>
              <a:ext cx="3729600" cy="4572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 (Testinterface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9564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2255040" y="5044320"/>
              <a:ext cx="13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erial cable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14200" y="4952880"/>
              <a:ext cx="168876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Multiplexe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58760" y="4495680"/>
              <a:ext cx="0" cy="457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58760" y="5562720"/>
              <a:ext cx="0" cy="53316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888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069360" y="510876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419360" y="4495680"/>
              <a:ext cx="12960" cy="1594080"/>
            </a:xfrm>
            <a:prstGeom prst="line">
              <a:avLst/>
            </a:prstGeom>
            <a:ln w="38160">
              <a:solidFill>
                <a:srgbClr val="003069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3431520" y="513036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hared memory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63760" y="3581280"/>
            <a:ext cx="3728880" cy="1981440"/>
            <a:chOff x="5063760" y="3581280"/>
            <a:chExt cx="3728880" cy="1981440"/>
          </a:xfrm>
        </p:grpSpPr>
        <p:sp>
          <p:nvSpPr>
            <p:cNvPr id="320" name=""/>
            <p:cNvSpPr/>
            <p:nvPr/>
          </p:nvSpPr>
          <p:spPr>
            <a:xfrm flipH="1">
              <a:off x="5063760" y="3657600"/>
              <a:ext cx="281160" cy="38088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400440" y="3581280"/>
              <a:ext cx="492480" cy="144792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00440" y="4572000"/>
              <a:ext cx="2392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onfiguration of test interfac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evtl. start of extra tool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90680" y="762120"/>
            <a:ext cx="8196120" cy="3200400"/>
            <a:chOff x="490680" y="762120"/>
            <a:chExt cx="8196120" cy="3200400"/>
          </a:xfrm>
        </p:grpSpPr>
        <p:sp>
          <p:nvSpPr>
            <p:cNvPr id="324" name=""/>
            <p:cNvSpPr/>
            <p:nvPr/>
          </p:nvSpPr>
          <p:spPr>
            <a:xfrm>
              <a:off x="1828800" y="2286000"/>
              <a:ext cx="2673360" cy="457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0680" y="2971800"/>
              <a:ext cx="3589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selection of mod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cification of individual parameter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4572000" y="762120"/>
              <a:ext cx="4114800" cy="30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 convenience  several default configurations exis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876920" cy="176184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338040" y="3657600"/>
            <a:ext cx="8805960" cy="2514600"/>
            <a:chOff x="338040" y="3657600"/>
            <a:chExt cx="8805960" cy="2514600"/>
          </a:xfrm>
        </p:grpSpPr>
        <p:grpSp>
          <p:nvGrpSpPr>
            <p:cNvPr id="332" name=""/>
            <p:cNvGrpSpPr/>
            <p:nvPr/>
          </p:nvGrpSpPr>
          <p:grpSpPr>
            <a:xfrm>
              <a:off x="457200" y="3657600"/>
              <a:ext cx="8686800" cy="2514600"/>
              <a:chOff x="457200" y="3657600"/>
              <a:chExt cx="8686800" cy="2514600"/>
            </a:xfrm>
          </p:grpSpPr>
          <p:pic>
            <p:nvPicPr>
              <p:cNvPr id="3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4114800"/>
                <a:ext cx="2362320" cy="16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457200" y="3657600"/>
                <a:ext cx="793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it has to be ensured that a matching ccddata-DLL is selected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4038480"/>
                <a:ext cx="1344600" cy="21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 flipV="1">
                <a:off x="2133720" y="5409720"/>
                <a:ext cx="761760" cy="68580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4114800"/>
                <a:ext cx="4114800" cy="19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lvl="2" marL="1131480" indent="-226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either a DLL which has been delivered together with the PS-image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31480" indent="-22608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or a prebuild DLL from ...\ccddata\  (</a:t>
                </a:r>
                <a:r>
                  <a:rPr b="0" lang="de-DE" sz="1600" spc="-1" strike="noStrike">
                    <a:solidFill>
                      <a:srgbClr val="003069"/>
                    </a:solidFill>
                    <a:latin typeface="Arial"/>
                  </a:rPr>
                  <a:t>e.g. </a:t>
                </a: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ccddata_G23M_333_S64.dll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for older B-Sample-Releases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4419720" y="4800600"/>
                <a:ext cx="1523880" cy="38088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338040" y="429588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Viewer: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420840" y="1800360"/>
            <a:ext cx="8551800" cy="4387680"/>
            <a:chOff x="420840" y="1800360"/>
            <a:chExt cx="8551800" cy="4387680"/>
          </a:xfrm>
        </p:grpSpPr>
        <p:sp>
          <p:nvSpPr>
            <p:cNvPr id="341" name=""/>
            <p:cNvSpPr/>
            <p:nvPr/>
          </p:nvSpPr>
          <p:spPr>
            <a:xfrm>
              <a:off x="420840" y="1981080"/>
              <a:ext cx="2533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hoose COM por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6705720" y="5029200"/>
              <a:ext cx="144468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4952880" y="1800360"/>
              <a:ext cx="40197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flipH="1" flipV="1">
              <a:off x="6629040" y="4495320"/>
              <a:ext cx="228600" cy="76212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7720" y="914040"/>
            <a:ext cx="81043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mmunication via TraceMultiplexer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f using the TraceMultiplexer for the first time it has to be configured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61040" y="4495680"/>
            <a:ext cx="2533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57200" y="5638680"/>
            <a:ext cx="8439120" cy="762120"/>
            <a:chOff x="457200" y="5638680"/>
            <a:chExt cx="8439120" cy="762120"/>
          </a:xfrm>
        </p:grpSpPr>
        <p:sp>
          <p:nvSpPr>
            <p:cNvPr id="351" name=""/>
            <p:cNvSpPr/>
            <p:nvPr/>
          </p:nvSpPr>
          <p:spPr>
            <a:xfrm>
              <a:off x="457200" y="5638680"/>
              <a:ext cx="4643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the green tray symbol signals a successful connection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6019920"/>
              <a:ext cx="3733920" cy="7596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4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412920" y="1752480"/>
            <a:ext cx="6216480" cy="3810240"/>
            <a:chOff x="412920" y="1752480"/>
            <a:chExt cx="6216480" cy="3810240"/>
          </a:xfrm>
        </p:grpSpPr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2819520" y="1752480"/>
              <a:ext cx="327636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 flipH="1">
              <a:off x="6095880" y="3352680"/>
              <a:ext cx="533520" cy="22860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2920" y="3048120"/>
              <a:ext cx="25333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lect baudrate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f 115200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isable flow contro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" action="ppaction://hlinksldjump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2" action="ppaction://hlinksldjump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3" action="ppaction://hlinksldjump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4" action="ppaction://hlinksldjump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5" action="ppaction://hlinksldjump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6" action="ppaction://hlinksldjump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7" action="ppaction://hlinksldjump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8" action="ppaction://hlinksldjump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9" action="ppaction://hlinksldjump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0" action="ppaction://hlinksldjump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7800" y="91404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arameter observation is a special feature of PCO-Viewer ...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llowing to filter specific strings out of traces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... and displaying them in an extra sub-window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87520" y="2057400"/>
            <a:ext cx="8092800" cy="1143000"/>
            <a:chOff x="587520" y="2057400"/>
            <a:chExt cx="8092800" cy="1143000"/>
          </a:xfrm>
        </p:grpSpPr>
        <p:sp>
          <p:nvSpPr>
            <p:cNvPr id="361" name=""/>
            <p:cNvSpPr/>
            <p:nvPr/>
          </p:nvSpPr>
          <p:spPr>
            <a:xfrm>
              <a:off x="587520" y="2057400"/>
              <a:ext cx="7565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irst you have to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ind out how traces containing the wanted parameter look lik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r request specific traces from the develop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4114800" y="2133720"/>
              <a:ext cx="45655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609480" y="3124080"/>
            <a:ext cx="5486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fterwards you must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translate an example trace into a m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here the actual parameter values are exchanged by a placeholder starting and ending with ‘%’-characters,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for example:  “--- IN:%Last primitive%-”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09480" y="3114720"/>
            <a:ext cx="8155080" cy="2981160"/>
            <a:chOff x="609480" y="3114720"/>
            <a:chExt cx="8155080" cy="298116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6248520" y="3114720"/>
              <a:ext cx="2516040" cy="29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09480" y="5019840"/>
              <a:ext cx="5486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marL="291600" indent="-29160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his mask can now be added to the list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opening the options dialog, e.g., via the menu entry “view/options…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and together with more settings, like the entity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5720" y="5181480"/>
            <a:ext cx="793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ttention! The sender entities of the expected traces containing parameters have to be in the watch list of the PCO-Viewer filter!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85640" y="990720"/>
            <a:ext cx="7755120" cy="2638440"/>
            <a:chOff x="485640" y="990720"/>
            <a:chExt cx="7755120" cy="2638440"/>
          </a:xfrm>
        </p:grpSpPr>
        <p:sp>
          <p:nvSpPr>
            <p:cNvPr id="370" name=""/>
            <p:cNvSpPr/>
            <p:nvPr/>
          </p:nvSpPr>
          <p:spPr>
            <a:xfrm>
              <a:off x="609480" y="990720"/>
              <a:ext cx="5181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the latest parameter values ...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an be watched in the special sub-window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together with their historical values depending on the setting in the options dialog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6172200" y="1295280"/>
              <a:ext cx="206856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485640" y="2438280"/>
              <a:ext cx="439128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 flipV="1">
              <a:off x="5562720" y="1523520"/>
              <a:ext cx="60948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05520" y="2514600"/>
            <a:ext cx="374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Values in this grid 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can be copied to clipboar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... and so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57200" y="3809880"/>
            <a:ext cx="8393040" cy="914400"/>
            <a:chOff x="457200" y="3809880"/>
            <a:chExt cx="8393040" cy="91440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457200" y="4024440"/>
              <a:ext cx="441972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5105520" y="3809880"/>
              <a:ext cx="3744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A click on a value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moves the main entry list to the corresponding trac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7800" y="914400"/>
            <a:ext cx="793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Volatile fi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ave to be build together with the used protocol stack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ccddata_dll.dll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database with primitive symbol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str2ind.tab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able with “ID &lt;-&gt; trace text” association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5720" y="2286000"/>
            <a:ext cx="793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tailed documentation: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userguide.doc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_userguide.doc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el_plus_design_spec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el_plus_design_spec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requirements for a graphical display-driv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frame_users_guide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frame_users_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description of FRAME system primitives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intro.pps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his document)</a:t>
            </a: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intro.pp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data flo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2080" y="9144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51000" y="3505320"/>
            <a:ext cx="6735240" cy="2760840"/>
            <a:chOff x="351000" y="3505320"/>
            <a:chExt cx="6735240" cy="2760840"/>
          </a:xfrm>
        </p:grpSpPr>
        <p:sp>
          <p:nvSpPr>
            <p:cNvPr id="386" name=""/>
            <p:cNvSpPr/>
            <p:nvPr/>
          </p:nvSpPr>
          <p:spPr>
            <a:xfrm>
              <a:off x="965160" y="4873680"/>
              <a:ext cx="9889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351000" y="3505320"/>
              <a:ext cx="6735240" cy="2760840"/>
              <a:chOff x="351000" y="3505320"/>
              <a:chExt cx="6735240" cy="2760840"/>
            </a:xfrm>
          </p:grpSpPr>
          <p:sp>
            <p:nvSpPr>
              <p:cNvPr id="388" name=""/>
              <p:cNvSpPr/>
              <p:nvPr/>
            </p:nvSpPr>
            <p:spPr>
              <a:xfrm>
                <a:off x="351000" y="3505320"/>
                <a:ext cx="1600200" cy="2209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rotocol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tack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70320" y="4800600"/>
                <a:ext cx="84996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ST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72680" y="5867280"/>
                <a:ext cx="97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10800" y="5867280"/>
                <a:ext cx="167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est system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68840" y="510552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166480" y="47196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78440" y="540540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68840" y="541008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7667640" y="4800600"/>
            <a:ext cx="1196640" cy="914400"/>
            <a:chOff x="7667640" y="4800600"/>
            <a:chExt cx="1196640" cy="914400"/>
          </a:xfrm>
        </p:grpSpPr>
        <p:sp>
          <p:nvSpPr>
            <p:cNvPr id="397" name=""/>
            <p:cNvSpPr/>
            <p:nvPr/>
          </p:nvSpPr>
          <p:spPr>
            <a:xfrm>
              <a:off x="8019720" y="4800600"/>
              <a:ext cx="84456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67640" y="5486400"/>
              <a:ext cx="35208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31800" y="1143000"/>
            <a:ext cx="6401520" cy="3504960"/>
            <a:chOff x="631800" y="1143000"/>
            <a:chExt cx="6401520" cy="3504960"/>
          </a:xfrm>
        </p:grpSpPr>
        <p:sp>
          <p:nvSpPr>
            <p:cNvPr id="400" name=""/>
            <p:cNvSpPr/>
            <p:nvPr/>
          </p:nvSpPr>
          <p:spPr>
            <a:xfrm>
              <a:off x="5300280" y="3375000"/>
              <a:ext cx="12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duplicat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rimitives,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rac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31800" y="1143000"/>
              <a:ext cx="6401520" cy="3504960"/>
              <a:chOff x="631800" y="1143000"/>
              <a:chExt cx="6401520" cy="350496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4290120" y="1143000"/>
                <a:ext cx="2743200" cy="1752120"/>
                <a:chOff x="4290120" y="1143000"/>
                <a:chExt cx="2743200" cy="1752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290120" y="1362240"/>
                  <a:ext cx="2476440" cy="1532880"/>
                </a:xfrm>
                <a:prstGeom prst="rect">
                  <a:avLst/>
                </a:prstGeom>
                <a:solidFill>
                  <a:srgbClr val="000080">
                    <a:alpha val="50000"/>
                  </a:srgbClr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81000" y="1143000"/>
                  <a:ext cx="2452320" cy="1533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ers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631800" y="1371600"/>
                <a:ext cx="198000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CD-data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01360" y="1600200"/>
                <a:ext cx="1688400" cy="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471000" y="2895120"/>
                <a:ext cx="0" cy="175284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05040" y="1170000"/>
                <a:ext cx="1468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decode</a:t>
                </a:r>
                <a:br>
                  <a:rPr sz="2400"/>
                </a:b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interprete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2813040" y="2286000"/>
            <a:ext cx="2039760" cy="2514600"/>
            <a:chOff x="2813040" y="2286000"/>
            <a:chExt cx="2039760" cy="2514600"/>
          </a:xfrm>
        </p:grpSpPr>
        <p:sp>
          <p:nvSpPr>
            <p:cNvPr id="410" name=""/>
            <p:cNvSpPr/>
            <p:nvPr/>
          </p:nvSpPr>
          <p:spPr>
            <a:xfrm>
              <a:off x="2813040" y="2286000"/>
              <a:ext cx="984960" cy="1523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656880" y="3809880"/>
              <a:ext cx="0" cy="9907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56880" y="3809880"/>
              <a:ext cx="119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primitives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display,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keyboard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039200" y="1143000"/>
            <a:ext cx="4558320" cy="4794120"/>
            <a:chOff x="4039200" y="1143000"/>
            <a:chExt cx="4558320" cy="4794120"/>
          </a:xfrm>
        </p:grpSpPr>
        <p:grpSp>
          <p:nvGrpSpPr>
            <p:cNvPr id="414" name=""/>
            <p:cNvGrpSpPr/>
            <p:nvPr/>
          </p:nvGrpSpPr>
          <p:grpSpPr>
            <a:xfrm>
              <a:off x="4039200" y="1143000"/>
              <a:ext cx="4558320" cy="4794120"/>
              <a:chOff x="4039200" y="1143000"/>
              <a:chExt cx="4558320" cy="4794120"/>
            </a:xfrm>
          </p:grpSpPr>
          <p:sp>
            <p:nvSpPr>
              <p:cNvPr id="415" name=""/>
              <p:cNvSpPr/>
              <p:nvPr/>
            </p:nvSpPr>
            <p:spPr>
              <a:xfrm>
                <a:off x="6356880" y="4648320"/>
                <a:ext cx="128088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21720" y="5573880"/>
                <a:ext cx="214992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93320" y="556884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39200" y="5199120"/>
                <a:ext cx="23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  </a:t>
                </a: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duplicated 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57400" y="3276720"/>
                <a:ext cx="0" cy="137160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96200" y="378000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6640" y="1143000"/>
                <a:ext cx="1280880" cy="21337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ontroller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 flipH="1">
              <a:off x="4221720" y="5105520"/>
              <a:ext cx="2110320" cy="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1560" y="474660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ystem primitiv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026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at for do I need a ccddata-DLL (e.g. ccddata_dll.dll)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contains information about all primitive and air message structures used in the corresponding protocol stack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57040" y="2282760"/>
            <a:ext cx="4140360" cy="2368440"/>
            <a:chOff x="257040" y="2282760"/>
            <a:chExt cx="4140360" cy="2368440"/>
          </a:xfrm>
        </p:grpSpPr>
        <p:sp>
          <p:nvSpPr>
            <p:cNvPr id="427" name=""/>
            <p:cNvSpPr/>
            <p:nvPr/>
          </p:nvSpPr>
          <p:spPr>
            <a:xfrm>
              <a:off x="1447920" y="2282760"/>
              <a:ext cx="114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out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8" name="" descr=""/>
            <p:cNvPicPr/>
            <p:nvPr/>
          </p:nvPicPr>
          <p:blipFill>
            <a:blip r:embed="rId1"/>
            <a:stretch/>
          </p:blipFill>
          <p:spPr>
            <a:xfrm>
              <a:off x="260280" y="3429000"/>
              <a:ext cx="413712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257040" y="2752560"/>
              <a:ext cx="371664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3"/>
            <a:stretch/>
          </p:blipFill>
          <p:spPr>
            <a:xfrm>
              <a:off x="260280" y="4114800"/>
              <a:ext cx="321948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"/>
          <p:cNvGrpSpPr/>
          <p:nvPr/>
        </p:nvGrpSpPr>
        <p:grpSpPr>
          <a:xfrm>
            <a:off x="4448160" y="2282760"/>
            <a:ext cx="4390920" cy="3794040"/>
            <a:chOff x="4448160" y="2282760"/>
            <a:chExt cx="4390920" cy="3794040"/>
          </a:xfrm>
        </p:grpSpPr>
        <p:sp>
          <p:nvSpPr>
            <p:cNvPr id="432" name=""/>
            <p:cNvSpPr/>
            <p:nvPr/>
          </p:nvSpPr>
          <p:spPr>
            <a:xfrm>
              <a:off x="5257800" y="2282760"/>
              <a:ext cx="2743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 a matching DLL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4"/>
            <a:stretch/>
          </p:blipFill>
          <p:spPr>
            <a:xfrm>
              <a:off x="4908600" y="3429000"/>
              <a:ext cx="38545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5"/>
            <a:stretch/>
          </p:blipFill>
          <p:spPr>
            <a:xfrm>
              <a:off x="4724280" y="4113360"/>
              <a:ext cx="3970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6"/>
            <a:stretch/>
          </p:blipFill>
          <p:spPr>
            <a:xfrm>
              <a:off x="4448160" y="2752560"/>
              <a:ext cx="43909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7"/>
            <a:stretch/>
          </p:blipFill>
          <p:spPr>
            <a:xfrm>
              <a:off x="4756320" y="5032440"/>
              <a:ext cx="3951000" cy="104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3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9480" y="1676520"/>
            <a:ext cx="4114800" cy="1600200"/>
            <a:chOff x="609480" y="1676520"/>
            <a:chExt cx="4114800" cy="1600200"/>
          </a:xfrm>
        </p:grpSpPr>
        <p:sp>
          <p:nvSpPr>
            <p:cNvPr id="441" name=""/>
            <p:cNvSpPr/>
            <p:nvPr/>
          </p:nvSpPr>
          <p:spPr>
            <a:xfrm>
              <a:off x="609480" y="167652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iv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titi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S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564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3356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6360" y="2971800"/>
              <a:ext cx="45720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09480" y="4327560"/>
            <a:ext cx="7925040" cy="1846800"/>
            <a:chOff x="609480" y="4327560"/>
            <a:chExt cx="7925040" cy="1846800"/>
          </a:xfrm>
        </p:grpSpPr>
        <p:sp>
          <p:nvSpPr>
            <p:cNvPr id="446" name=""/>
            <p:cNvSpPr/>
            <p:nvPr/>
          </p:nvSpPr>
          <p:spPr>
            <a:xfrm>
              <a:off x="3733920" y="486108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Linux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9480" y="432756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33920" y="432756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CM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71600" y="569916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10080" y="57754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est system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5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3920" y="2666880"/>
            <a:ext cx="99036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468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3436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800600" y="1523880"/>
            <a:ext cx="1866960" cy="3353040"/>
            <a:chOff x="4800600" y="1523880"/>
            <a:chExt cx="1866960" cy="3353040"/>
          </a:xfrm>
        </p:grpSpPr>
        <p:grpSp>
          <p:nvGrpSpPr>
            <p:cNvPr id="474" name=""/>
            <p:cNvGrpSpPr/>
            <p:nvPr/>
          </p:nvGrpSpPr>
          <p:grpSpPr>
            <a:xfrm>
              <a:off x="4800600" y="1523880"/>
              <a:ext cx="1866960" cy="2819160"/>
              <a:chOff x="4800600" y="1523880"/>
              <a:chExt cx="1866960" cy="2819160"/>
            </a:xfrm>
          </p:grpSpPr>
          <p:sp>
            <p:nvSpPr>
              <p:cNvPr id="475" name=""/>
              <p:cNvSpPr/>
              <p:nvPr/>
            </p:nvSpPr>
            <p:spPr>
              <a:xfrm>
                <a:off x="4800600" y="1523880"/>
                <a:ext cx="838080" cy="17524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cc00"/>
                    </a:solidFill>
                    <a:latin typeface="Arial"/>
                  </a:rPr>
                  <a:t>Panel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53160" y="3276360"/>
                <a:ext cx="91440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628668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743880" y="3276720"/>
            <a:ext cx="952200" cy="1600200"/>
            <a:chOff x="6743880" y="3276720"/>
            <a:chExt cx="952200" cy="1600200"/>
          </a:xfrm>
        </p:grpSpPr>
        <p:sp>
          <p:nvSpPr>
            <p:cNvPr id="479" name=""/>
            <p:cNvSpPr/>
            <p:nvPr/>
          </p:nvSpPr>
          <p:spPr>
            <a:xfrm>
              <a:off x="6743880" y="3276720"/>
              <a:ext cx="95220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ntrol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520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86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2666880"/>
            <a:ext cx="60948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05520" y="1523880"/>
            <a:ext cx="53316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Panel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53160" y="3276720"/>
            <a:ext cx="9144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43880" y="327672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ntrol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81560" y="1523880"/>
            <a:ext cx="68580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500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020240"/>
            <a:ext cx="81820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8668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1520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63400" y="5486400"/>
            <a:ext cx="76899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ndows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400" y="4876920"/>
            <a:ext cx="7689960" cy="6094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ms.dll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400" y="3352680"/>
            <a:ext cx="2884680" cy="15242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frame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if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misc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400" y="2438280"/>
            <a:ext cx="112572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st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0080" y="1600200"/>
            <a:ext cx="1548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xPane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exe,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tc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9200" y="3505320"/>
            <a:ext cx="175896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srv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3505320"/>
            <a:ext cx="164484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controller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ctrl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76960" y="3505320"/>
            <a:ext cx="1076400" cy="13716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18440" y="3352680"/>
            <a:ext cx="1011240" cy="144792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58120" y="3200400"/>
            <a:ext cx="126684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15000" y="1523880"/>
            <a:ext cx="2971800" cy="1067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CD-database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cddata_*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2680" y="2590920"/>
            <a:ext cx="3240" cy="60948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5840" y="99072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pping to executables and DLLs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6680" y="1447920"/>
            <a:ext cx="79358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 interface approach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data interface between G23 protocol stack and a PC test system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ually a standard serial cable, COM-ports on both end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120" y="3870360"/>
            <a:ext cx="2603520" cy="1752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79960" y="3870360"/>
            <a:ext cx="2603520" cy="1752480"/>
          </a:xfrm>
          <a:prstGeom prst="rect">
            <a:avLst/>
          </a:prstGeom>
          <a:solidFill>
            <a:srgbClr val="6699ff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C test syste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640" y="4327560"/>
            <a:ext cx="2884320" cy="0"/>
          </a:xfrm>
          <a:prstGeom prst="line">
            <a:avLst/>
          </a:prstGeom>
          <a:ln w="38160">
            <a:solidFill>
              <a:srgbClr val="0063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5640" y="5181480"/>
            <a:ext cx="28843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6160" y="450684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95640" y="516564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races,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uplicated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5480" y="350532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System primitives,</a:t>
            </a:r>
            <a:br>
              <a:rPr sz="2400"/>
            </a:b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keystrok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6680" y="1641240"/>
            <a:ext cx="76676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xpan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xPane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communication port and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audrate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if xpanel is used alone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xPanel configuration files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3760" y="4876920"/>
            <a:ext cx="7935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TARGET_lo.tcl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TARGET_lo.tcl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fault layout for xPane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ere e.g. new keys may be add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4221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pco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the PCO component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1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4114800"/>
            <a:ext cx="4343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start.lst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 \gpf\cfg\pco_start.lst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st with applications to be sta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xPanel, PCO-view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editable by GUI (PCO-Controller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854600" y="4343400"/>
            <a:ext cx="4081320" cy="16765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830840" y="1359000"/>
            <a:ext cx="4011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2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View.txt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View.txt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predefined FRAME system primitives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.g.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DUPLICATE MM PCO” -&gt; RR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CONFIG AT+CFUN=1” -&gt; MMI (to send At-Commands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se may be selected and sent using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571680" y="3352680"/>
          <a:ext cx="7735680" cy="30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352680"/>
                    <a:ext cx="773568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3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pco_stack.xml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pco_stack.xml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all “Matrix”-entries of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may be edited to e.g. change the entry-or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990720" y="2406600"/>
            <a:ext cx="5562360" cy="38419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456240" y="2514600"/>
            <a:ext cx="1697040" cy="3600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6095880" y="4038480"/>
            <a:ext cx="304920" cy="0"/>
          </a:xfrm>
          <a:prstGeom prst="line">
            <a:avLst/>
          </a:prstGeom>
          <a:ln w="5724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I internal issu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Maintenance and version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xPanel and PCO are maintained by the GPF-team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livery is usually done inside the gpf_x.csi file included in the ConfigSpec of each developer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ocal setup-packages can be obtained at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\\dbgs2\deveng\cc\gpf\projects\pco\delivery\index.htm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ccddata_dll.dl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while running makcdg-script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pf\BI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str2ind.tab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during protocol stack build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23m\__out__\...\trace\...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laining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an be done directly by using the “moan”-button in the system tr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ee \gpf\DOC\moanbtn\mbtn_userguide.doc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153280" y="5257800"/>
            <a:ext cx="41292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3153960"/>
            <a:ext cx="79358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PC test system side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xecutable using the GPF-FRAME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nects via standard OS driv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by tools like the former PANEL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 and of course by xPanel &amp; PCO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se tools finally provide GUI-stack-access for testers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6680" y="1219320"/>
            <a:ext cx="7935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stack side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ntity included in the GPF-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s corresponding hardware driver for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xPanel - eXtended Panel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apable to display text &amp; graphics output of mobile MMI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mutable layout, easy to change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PCO2 - Point of Control and Observation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filtered watching of traces and duplicated primitive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intuitive configuration (traceclasses, routing) of protocol stack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server, controller, extensible set of view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2040" y="762120"/>
            <a:ext cx="375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ake off”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tarting of pco2.bat in the bin-directory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BIN) …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will per default result in such a scenario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74720" y="990720"/>
            <a:ext cx="8230680" cy="5378400"/>
            <a:chOff x="774720" y="990720"/>
            <a:chExt cx="8230680" cy="53784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6684120" y="5791320"/>
              <a:ext cx="10126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543360" y="990720"/>
              <a:ext cx="105948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322360" y="5181480"/>
              <a:ext cx="386928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774720" y="2590920"/>
              <a:ext cx="10422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98520" y="2149560"/>
              <a:ext cx="133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69080" y="5502240"/>
              <a:ext cx="1336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Serv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791320"/>
              <a:ext cx="98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xPanel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3307320" y="2514600"/>
              <a:ext cx="288144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81960" y="434340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xPane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774720" y="1447920"/>
            <a:ext cx="7583040" cy="4952880"/>
            <a:chOff x="774720" y="1447920"/>
            <a:chExt cx="7583040" cy="4952880"/>
          </a:xfrm>
        </p:grpSpPr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774720" y="1523880"/>
              <a:ext cx="162540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11400" y="1447920"/>
              <a:ext cx="624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can be used like a real mobil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press keys (e.g. for switching on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see display outpu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11400" y="3886200"/>
            <a:ext cx="6891480" cy="2554200"/>
            <a:chOff x="2111400" y="3886200"/>
            <a:chExt cx="6891480" cy="2554200"/>
          </a:xfrm>
        </p:grpSpPr>
        <p:grpSp>
          <p:nvGrpSpPr>
            <p:cNvPr id="123" name=""/>
            <p:cNvGrpSpPr/>
            <p:nvPr/>
          </p:nvGrpSpPr>
          <p:grpSpPr>
            <a:xfrm>
              <a:off x="2111400" y="4343400"/>
              <a:ext cx="6891480" cy="2097000"/>
              <a:chOff x="2111400" y="4343400"/>
              <a:chExt cx="6891480" cy="2097000"/>
            </a:xfrm>
          </p:grpSpPr>
          <p:pic>
            <p:nvPicPr>
              <p:cNvPr id="1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080960" y="4800600"/>
                <a:ext cx="1632240" cy="12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8600" y="5105520"/>
                <a:ext cx="2251080" cy="13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111400" y="4343400"/>
                <a:ext cx="689148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provides interface to send FRAME system primitives and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     AT-command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111400" y="3886200"/>
              <a:ext cx="624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GUI to select communication typ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2280" y="1523880"/>
            <a:ext cx="7935480" cy="4876920"/>
            <a:chOff x="422280" y="1523880"/>
            <a:chExt cx="7935480" cy="4876920"/>
          </a:xfrm>
        </p:grpSpPr>
        <p:grpSp>
          <p:nvGrpSpPr>
            <p:cNvPr id="129" name=""/>
            <p:cNvGrpSpPr/>
            <p:nvPr/>
          </p:nvGrpSpPr>
          <p:grpSpPr>
            <a:xfrm>
              <a:off x="422280" y="1523880"/>
              <a:ext cx="7935480" cy="4876920"/>
              <a:chOff x="422280" y="1523880"/>
              <a:chExt cx="7935480" cy="4876920"/>
            </a:xfrm>
          </p:grpSpPr>
          <p:sp>
            <p:nvSpPr>
              <p:cNvPr id="130" name=""/>
              <p:cNvSpPr/>
              <p:nvPr/>
            </p:nvSpPr>
            <p:spPr>
              <a:xfrm>
                <a:off x="2110680" y="2514600"/>
                <a:ext cx="62470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is easily adaptable to your layou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22280" y="1523880"/>
                <a:ext cx="2079720" cy="4876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2" name="" descr=""/>
            <p:cNvPicPr/>
            <p:nvPr/>
          </p:nvPicPr>
          <p:blipFill>
            <a:blip r:embed="rId10"/>
            <a:stretch/>
          </p:blipFill>
          <p:spPr>
            <a:xfrm>
              <a:off x="5558400" y="2895480"/>
              <a:ext cx="1688400" cy="94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PCO-Viewer(s)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954160" y="990720"/>
            <a:ext cx="5699160" cy="4730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0680" y="5867280"/>
            <a:ext cx="5489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figuration can be stored as a “.svc”-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9520" y="1600200"/>
            <a:ext cx="295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atch traces of 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selected entiti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ordered by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distinguished by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lor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9520" y="990720"/>
            <a:ext cx="8453160" cy="4732200"/>
            <a:chOff x="209520" y="990720"/>
            <a:chExt cx="8453160" cy="4732200"/>
          </a:xfrm>
        </p:grpSpPr>
        <p:grpSp>
          <p:nvGrpSpPr>
            <p:cNvPr id="144" name=""/>
            <p:cNvGrpSpPr/>
            <p:nvPr/>
          </p:nvGrpSpPr>
          <p:grpSpPr>
            <a:xfrm>
              <a:off x="209520" y="990720"/>
              <a:ext cx="8453160" cy="4732200"/>
              <a:chOff x="209520" y="990720"/>
              <a:chExt cx="8453160" cy="4732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09520" y="3352680"/>
                <a:ext cx="295344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watch redirected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primitives/messages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hexdump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structure 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63520" y="990720"/>
                <a:ext cx="5699160" cy="4732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5676840" y="1295280"/>
              <a:ext cx="2400480" cy="976320"/>
            </a:xfrm>
            <a:prstGeom prst="rect">
              <a:avLst/>
            </a:prstGeom>
            <a:ln w="38160">
              <a:solidFill>
                <a:srgbClr val="003069"/>
              </a:solidFill>
              <a:miter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209520" y="1523880"/>
            <a:ext cx="8583480" cy="4191120"/>
            <a:chOff x="209520" y="1523880"/>
            <a:chExt cx="8583480" cy="4191120"/>
          </a:xfrm>
        </p:grpSpPr>
        <p:sp>
          <p:nvSpPr>
            <p:cNvPr id="149" name=""/>
            <p:cNvSpPr/>
            <p:nvPr/>
          </p:nvSpPr>
          <p:spPr>
            <a:xfrm>
              <a:off x="209520" y="4876920"/>
              <a:ext cx="2954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filter by sender or 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PC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351648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541656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800600" y="1523880"/>
              <a:ext cx="193680" cy="7621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5-19T20:50:53Z</dcterms:modified>
  <cp:revision>126</cp:revision>
  <dc:subject/>
  <dc:title>PowerPoint-Präsentation</dc:title>
</cp:coreProperties>
</file>